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469-C8DD-40C1-B5D2-6644ABD0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66B3-DCA2-4C87-BB48-0D49EC362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27C-8CE5-4F5A-91EB-3E8E2307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4B4-5784-4863-A31A-925109D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3F2-2547-42DA-AB41-9CCCC988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950-B6BE-4FCE-B764-3D807331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FA09-DAA1-4281-A9FE-A7F9C3A5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2115-D6CD-4CCC-BE1C-1FCB244D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FD0-3362-4662-AF5D-1D5C6467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1EA2-0DA0-493F-AE3A-108ADFCC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E11F-36A2-49D0-AE7D-EFB2495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F2E0-4B2E-40EB-95C2-7978D12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6F0-0BC7-4F94-8F67-B1D1556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310-D045-4609-88B1-CD8732E0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495A-B6F4-45D6-98A1-4307ECB5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7E0B-25DC-4B27-9A4A-061EB02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2F1-3324-4A6B-AFBC-28D34172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C46-6EE4-46B7-A5BB-6A36A52E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7AC-A072-4833-86A7-DEB3BB6E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380-11F2-4151-86DC-D9684337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D8C-3E06-4BEE-BF5B-F9D3AFB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681-BBF1-4450-9FF0-408807AE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82D-A16A-405D-9F49-1A34F56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8DB-8919-429E-A0A5-B4590EF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17A-79EE-4ADE-90EE-391DB08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053-824A-4A71-980D-C55ACF3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349F-1112-4EED-8509-C859CCC9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34A-CFA7-4CF4-8CCB-EF2B4D55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What is Inquiry?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04960" y="2819520"/>
            <a:ext cx="505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 ve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914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Let’s separate the major components of milk!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873160" cy="2027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793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1971720"/>
            <a:ext cx="6400080" cy="3618720"/>
            <a:chOff x="2209680" y="1971720"/>
            <a:chExt cx="6400080" cy="3618720"/>
          </a:xfrm>
        </p:grpSpPr>
        <p:cxnSp>
          <p:nvCxnSpPr>
            <p:cNvPr id="114" name="_s71685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6540840" y="378000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1686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5183280" y="378072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71687"/>
            <p:cNvCxnSpPr>
              <a:stCxn id="116" idx="0"/>
              <a:endCxn id="120" idx="2"/>
            </p:cNvCxnSpPr>
            <p:nvPr/>
          </p:nvCxnSpPr>
          <p:spPr>
            <a:xfrm flipV="1" rot="16200000">
              <a:off x="5183280" y="242316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71688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3825720" y="242316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71689"/>
            <p:cNvSpPr/>
            <p:nvPr/>
          </p:nvSpPr>
          <p:spPr>
            <a:xfrm>
              <a:off x="3567600" y="197172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71690"/>
            <p:cNvSpPr/>
            <p:nvPr/>
          </p:nvSpPr>
          <p:spPr>
            <a:xfrm>
              <a:off x="220968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691"/>
            <p:cNvSpPr/>
            <p:nvPr/>
          </p:nvSpPr>
          <p:spPr>
            <a:xfrm>
              <a:off x="492480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692"/>
            <p:cNvSpPr/>
            <p:nvPr/>
          </p:nvSpPr>
          <p:spPr>
            <a:xfrm>
              <a:off x="356760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693"/>
            <p:cNvSpPr/>
            <p:nvPr/>
          </p:nvSpPr>
          <p:spPr>
            <a:xfrm>
              <a:off x="628272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6000" y="4267080"/>
            <a:ext cx="65530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Separating Curds and Whey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09680" y="2057400"/>
            <a:ext cx="6248160" cy="3533040"/>
            <a:chOff x="2209680" y="2057400"/>
            <a:chExt cx="6248160" cy="3533040"/>
          </a:xfrm>
        </p:grpSpPr>
        <p:cxnSp>
          <p:nvCxnSpPr>
            <p:cNvPr id="129" name="_s81925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437880" y="38228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81926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5112360" y="382356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1927"/>
            <p:cNvCxnSpPr>
              <a:stCxn id="131" idx="0"/>
              <a:endCxn id="135" idx="2"/>
            </p:cNvCxnSpPr>
            <p:nvPr/>
          </p:nvCxnSpPr>
          <p:spPr>
            <a:xfrm flipV="1" rot="16200000">
              <a:off x="5112360" y="249804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1928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3787200" y="24980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81929"/>
            <p:cNvSpPr/>
            <p:nvPr/>
          </p:nvSpPr>
          <p:spPr>
            <a:xfrm>
              <a:off x="3535200" y="20574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30"/>
            <p:cNvSpPr/>
            <p:nvPr/>
          </p:nvSpPr>
          <p:spPr>
            <a:xfrm>
              <a:off x="220968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81931"/>
            <p:cNvSpPr/>
            <p:nvPr/>
          </p:nvSpPr>
          <p:spPr>
            <a:xfrm>
              <a:off x="486000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1932"/>
            <p:cNvSpPr/>
            <p:nvPr/>
          </p:nvSpPr>
          <p:spPr>
            <a:xfrm>
              <a:off x="353520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1933"/>
            <p:cNvSpPr/>
            <p:nvPr/>
          </p:nvSpPr>
          <p:spPr>
            <a:xfrm>
              <a:off x="618588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acromolecules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in Milk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720" y="21333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standard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mans use natural systems as resources for growth and developmen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erties of macromolecul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d components and origi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racteristics of mammal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Tahoma"/>
              </a:rPr>
              <a:t>Extensions</a:t>
            </a:r>
            <a:endParaRPr b="1" lang="en-US" sz="6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nalyze each milk phase for macromolecu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calculate the % of each macromolecu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pply separation techniques to other foo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research cheese mak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Partner Work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am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e for pres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cide on topic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two relevant activities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Searching for activities on the web: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variety of topic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 specific if you know what you wan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teaching words such 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ivity, classroom activity, high school lab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ignore activities designed for a different age grou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believe inquiry label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National Science Education Standard Topics for Grades 9-12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440" y="228564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of the c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flow in eco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energy/dig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3760" y="228564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us 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tion of population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1142640"/>
            <a:ext cx="6705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Inquiry teaching is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based on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onstructivism.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172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Constructivism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76480" y="1779120"/>
            <a:ext cx="668664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2001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construct their own knowledg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2001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are not “blank slates.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2001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h new and previous experiences contribute to understand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Traditional Teaching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1828440"/>
            <a:ext cx="6705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as authority fig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hasize knowledge of fac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 and process are separate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bs verify fact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 and eas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 teach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1360" y="5638680"/>
            <a:ext cx="546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!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lthough sometimes appropri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477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Inquiry Teaching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as facilitator and coa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experience scientific proces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bs explore student idea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directed!)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phasis on higher order thinking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w, can be uncomfort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teache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981080"/>
            <a:ext cx="6705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No one can realistically teach all inquiry, all the time.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Inquiry is a continuous spectrum.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343400"/>
            <a:ext cx="6553080" cy="304920"/>
          </a:xfrm>
          <a:prstGeom prst="leftRightArrow">
            <a:avLst>
              <a:gd name="adj1" fmla="val 50000"/>
              <a:gd name="adj2" fmla="val 42783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89280" y="4952880"/>
            <a:ext cx="67975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okbook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Open-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What does inquiry teaching incorporate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701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-solv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ion of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pproach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ment of collabo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 world applic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Hands-On Activity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81080" y="2057040"/>
            <a:ext cx="594864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milk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alvin milk"/>
          <p:cNvPicPr/>
          <p:nvPr/>
        </p:nvPicPr>
        <p:blipFill>
          <a:blip r:embed="rId3"/>
          <a:srcRect l="0" t="0" r="0" b="5486"/>
          <a:stretch/>
        </p:blipFill>
        <p:spPr>
          <a:xfrm>
            <a:off x="6477120" y="3352680"/>
            <a:ext cx="230004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1:46Z</dcterms:created>
  <dc:creator>Cynthia J. Moore</dc:creator>
  <dc:description/>
  <dc:language>en-US</dc:language>
  <cp:lastModifiedBy>Cynthia Moore</cp:lastModifiedBy>
  <dcterms:modified xsi:type="dcterms:W3CDTF">2011-01-19T06:15:11Z</dcterms:modified>
  <cp:revision>38</cp:revision>
  <dc:subject/>
  <dc:title>Slide 1</dc:title>
</cp:coreProperties>
</file>